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6504"/>
        <c:axId val="43053884"/>
      </c:barChart>
      <c:catAx>
        <c:axId val="5096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53884"/>
        <c:crosses val="autoZero"/>
        <c:auto val="1"/>
        <c:lblAlgn val="ctr"/>
        <c:lblOffset val="100"/>
        <c:noMultiLvlLbl val="0"/>
      </c:catAx>
      <c:valAx>
        <c:axId val="43053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6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64F-0E6F-4A04-8A6C-235D3583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84F-5765-4312-B680-6F36FBA7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45A-6DD1-44D5-B7B0-CF7C834C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C36-172E-4FE6-96A9-F1ABF8C9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DC9-9EF8-42BA-86F2-6B04008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226-0E54-41FE-88AF-29FFCA1A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5F6-FA8F-4E31-AED8-E54B921E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480-905D-46E4-A887-CCFA6A1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172-22F7-40E3-8F4D-A023CEC7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2DD-C7E1-4F9D-91CB-9DA16DC1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59D-77BA-4925-A847-89F4016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8A5-E561-4437-86F3-EEA7702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90DB1-D9E5-4C7D-A0AA-192C496F4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