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24104"/>
        <c:axId val="38145162"/>
      </c:barChart>
      <c:catAx>
        <c:axId val="86624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45162"/>
        <c:crosses val="autoZero"/>
        <c:auto val="1"/>
        <c:lblAlgn val="ctr"/>
        <c:lblOffset val="100"/>
        <c:noMultiLvlLbl val="0"/>
      </c:catAx>
      <c:valAx>
        <c:axId val="38145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24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377-1DE2-47F8-8629-A98EB0F7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5BE-C49E-43FD-96E8-8FBD6F8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720-F35E-4EC8-85C6-1AEF2D3E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67B-4FA7-46FE-8E3C-A9E171AE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9B8-B3A2-467D-BAC6-711232F2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71F-3E97-4938-A66F-42DA3D96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AB9-1EF7-44C6-A2A6-3F8B3DC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B42-993F-4069-A3FB-2A08702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6D8-C94E-4361-91FA-49CA905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DC9-1A18-4FD1-840B-9054D80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C7C-DB8D-417A-A710-2F7349B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E59-753D-4259-8245-B4D94FDB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713E5-10CF-4A01-9B4E-5A7ABBDDC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